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3F3-C441-4F15-A2CF-7D9BA49A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0C8C-86C3-4AB3-9EC5-76EDBF20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F89-FDB1-41C2-A65D-487A05B1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E74-69EB-4E73-9FCC-2679E52C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F07-555B-4163-BE90-EFB7BA22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2F3-F1E8-4456-B0F2-983F9065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04A-FD2B-4573-8406-81D5C2E0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3DA-B2A0-449C-9585-362DEB6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2E0-FBD1-47E1-A5C3-534BE31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261-FB53-4D9C-80A2-A2363DA8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5AC-B189-4FA5-8856-970138FB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B2C-8F02-434F-A792-9DE5361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B44-3522-4589-80C3-19C8CC0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89E-03F9-4085-B909-FB81904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93BD-484B-4BE4-AA70-9B77B6DC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at Hussein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at Hussein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at Hussein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mi amigas! ¿Qué quieres? ¿De donde eres? Tengo k estudar, adio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umbre es Ayat. Vivo en New York. Yo tengo catorce años. Tengo dos hermanos, una hermana y un hermano. Yo soy bonita. Estoy feliz y enerj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12760" y="5029200"/>
            <a:ext cx="64116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2193840" y="335268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2114640" y="6168960"/>
            <a:ext cx="542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457200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as tardes! Jajaja, todos tienemos catorce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3276720"/>
            <a:ext cx="38098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y de donde Mexico. ¿Cuánto años tie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2514600"/>
            <a:ext cx="3809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! Soy quiero dulces! Soy de donde Ho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as noche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45720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¿Cómo eres Carmela? Te amo Rhahmina,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mela. Hay gracios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53341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Ella esta bonita, y enerjica, y simpat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2114640" y="3882960"/>
            <a:ext cx="647640" cy="938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60199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8:47Z</dcterms:modified>
  <cp:revision>109</cp:revision>
  <dc:subject/>
  <dc:title>Profile</dc:title>
</cp:coreProperties>
</file>